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23A-C973-4AA9-ADBC-6121B1EF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4BE-264D-4429-B3AE-94D9F7C1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B2F-647B-43F6-A06B-86070083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2C66-43CA-4430-AAEB-A64744DC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03FF-8842-4A32-BD60-DE207E78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AD9C-AAD5-4C5D-B1BB-7F80F3D5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F6E6-14D2-496A-93A4-F8600763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73AC-4525-4133-879E-82C0F6E6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B020-BC5D-4022-8F74-5E4AF294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AEB6-B161-47AF-9C5B-00C35221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620F-7FBE-4849-9B5D-0648C070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A00-CDDC-4836-B078-C357D5A6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C4EE-4A39-4D03-9AAD-6D4C3605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B243-39CD-447F-891A-C1FC15ED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5DEA-5B76-4CEA-AB4C-B12D598A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D05C-6321-42E3-8608-10C56849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3E73-1F9A-4759-9D39-4240D533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919-3257-4814-9762-CBAB6AD2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F66-0164-4604-A6EA-BCB0262D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AC2-91B2-47CF-99AF-F523371A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E451-991C-4408-8039-3927635F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988-BE7D-4133-AEFF-00CD8184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122-6606-4DE3-80C0-B5CBBCE7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B46E-1085-4F4A-ADCF-E975DAD3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2A5A-97C0-4605-827F-9A966B31AF2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14AF-3E1E-4E91-A04B-3405635BCC9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004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рограмма профилактики буллинга в образовательных учреждения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(для учителей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Рисунок 7" descr="LOGO_green.jpg"/>
          <p:cNvPicPr/>
          <p:nvPr/>
        </p:nvPicPr>
        <p:blipFill>
          <a:blip r:embed="rId1"/>
          <a:stretch/>
        </p:blipFill>
        <p:spPr>
          <a:xfrm>
            <a:off x="6659640" y="26028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ситуации травли учитель ничего не может сделать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00040" y="13572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Очевидно, что эта проблема заслуживае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большого внимания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214200" y="1500120"/>
          <a:ext cx="8137800" cy="4291200"/>
        </p:xfrm>
        <a:graphic>
          <a:graphicData uri="http://schemas.openxmlformats.org/drawingml/2006/table">
            <a:tbl>
              <a:tblPr/>
              <a:tblGrid>
                <a:gridCol w="2319480"/>
                <a:gridCol w="3324240"/>
                <a:gridCol w="2494080"/>
              </a:tblGrid>
              <a:tr h="392292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ак  можно понять, что в Вашем классе этой проблемы не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акие есть  способы предупреждения этой проблемы ?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Что  можно сделать,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появились первые признаки проблемы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280" y="1341360"/>
            <a:ext cx="87854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 работе с буллингом важно четко понимать и соблюдать последовательность действий. Сначала надо пресечь буллинг, и лишь затем актуальность обретает помощь жертве с психологическими и поведенческими проблемами. Если сначала проводить социальный тренинг или подобные мероприятия, то это сообщает жертве и остальным, что она сама виновата в травле. Это деструктивно для жертвы и окажет опасное воздействие на учеников и школьную атмосферу в ц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0004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зентацию подготовил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пециалисты школьного отде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Рисунок 7" descr="LOGO_green.jpg"/>
          <p:cNvPicPr/>
          <p:nvPr/>
        </p:nvPicPr>
        <p:blipFill>
          <a:blip r:embed="rId1"/>
          <a:stretch/>
        </p:blipFill>
        <p:spPr>
          <a:xfrm>
            <a:off x="6659640" y="33336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уллин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 буллинге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или травле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можно говорить тогда, когда один или несколько индивидо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егулярно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, на протяжении длительного времен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двергаются негативным действиям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о стороны одного или нескольких индивидо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(Ден Ольвеус 1983г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95280" y="12096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уллин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дивиду, подвергающемуся буллингу, обычно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легко себя защитить – он, как правило, относительно беспомощен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сора между примерно равными по соотношению сил индивидов не является буллинг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Значимость этого аспекта была отмечена еще в 1983 году, когда в Норвегии была проведена первая в мире компания, направленная против моббинга.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спространенность буллинг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3% школьников имеют опыт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жерт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20% 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следователе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причем в больших городах уровень буллинга выше, чем в сельской местности (Россия) (Ениколопов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25% подростков хотя бы раз участвовали в буллинге (Россия) (Собкин, Маркина, 2009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-   68% учеников средней школы бывал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идетеля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травли в школе (Канада)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rach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ym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aterhous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al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2010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Травля – нормальный и безвредный процесс взросления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Травля (буллинг, моббинг) в школе – проблема, с которой сталкиваются очень многие. Буллинг – не нормативный и не безвредный этап взросления. Буллинг – это насилие, имеющее тяжелые последствия для всех участников и сообщества в целом. Буллинг привычен для российской действительности, сложно его обнаруживать, сложно обсуждать, сложно изменять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 .               отношени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к нему,  как к норме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Последствия буллинга и связанные с ним риски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жертвы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испытывают сложности со здоровьем и успеваемостью, в три раза чаще сверстников имеют симптомы тревожно-депрессивных расстройств, апатию, головные боли и энурез, совершают попытки суицида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Kowalsk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Limbe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gatstone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2011;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Van der Wa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de Wit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Hirasing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2003)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следствия буллинга и связанные с ним риск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следовател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часто отмечаются низкая успеваемость, прогулы, драки, воровство, вандализм, хранение оружия, употребление алкоголя и таба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yrn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1994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arofal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ol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Kess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 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, 1998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yni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ans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it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 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, 2001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lweu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1993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тей с необычным поведением будут обижать в любом коллективе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08:59:02Z</dcterms:created>
  <dc:creator>User</dc:creator>
  <dc:description/>
  <dc:language>en-US</dc:language>
  <cp:lastModifiedBy>Administrator</cp:lastModifiedBy>
  <dcterms:modified xsi:type="dcterms:W3CDTF">2014-02-16T15:16:48Z</dcterms:modified>
  <cp:revision>88</cp:revision>
  <dc:subject/>
  <dc:title>Программа профилактики буллинга в образовательных учреждениях</dc:title>
</cp:coreProperties>
</file>